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9E93-2386-4EA3-87EB-AF958047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B8E-2D32-43A0-8205-F42BA230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0D36-700F-4825-9DF9-5F68920A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ED3B-06FA-47B2-B827-45BF41D9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F0BA-0E3E-4E18-8A9E-4EEC1CED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2C23-C7FB-47FD-A53B-E0C09A04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6E7D-5446-421F-BBBE-4ACC9B55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BAF6-8325-4E63-BBE4-7D637C54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B08A-94EC-4B93-A9BB-826BFD02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966D-F51E-440C-97CE-EFEE676B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B900-F4CC-40AC-9BF3-806848B9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51F2-B2C6-48F6-B6D2-0D026D25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32B7-8095-4F61-A7E1-793B9ACF8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16 Pán Ježiš prícho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chyst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príchod sv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 z nebies chyst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nám dedič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em novú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spi a priprav s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vítať Krist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prievode anjelov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de tvoj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hľadaj poklad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omto sve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o tu krátke, ve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 trva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emu len s dôver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obráť zre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zvody sve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odpovedz: Ni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ovzdaj Pánov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život cel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e ťa mil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ásky mu slú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tka len chvíľ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ty budeš v cie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skoro príde tvoj Spasiteľ u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11:02:31Z</dcterms:modified>
  <cp:revision>20</cp:revision>
  <dc:subject/>
  <dc:title>Je veľký náš Pán, on slávy je Kráľ Nech do všetkých strán  spev vrúcnych znie chvál.</dc:title>
</cp:coreProperties>
</file>